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A5C-66F7-41D5-AB12-9154CFF4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6D0-8CF1-44E1-B7C4-DFC5EB5A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6D5-F57A-4DF4-BB86-F9116A4E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1C2-D407-492F-82C7-9C618C21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560-87DD-484F-A13F-15C07272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6ED-25E6-4ECE-B4F5-97C67EA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752-3F32-4B5B-AAC0-3042258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DEB-A3AE-4584-9813-2A2BD8E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33B-99C9-4C13-B5E6-B26F9CA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E67-E234-4EDA-A110-D5C06DB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8F9-0126-4119-95A4-F8B05F5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FB5-283A-4B52-9A6C-2B1A70C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A28-C2F4-494F-B0AE-CDB591277F4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8:04:33Z</dcterms:created>
  <dc:creator>Grupo Editorial</dc:creator>
  <dc:description/>
  <dc:language>en-US</dc:language>
  <cp:lastModifiedBy>TORRES</cp:lastModifiedBy>
  <dcterms:modified xsi:type="dcterms:W3CDTF">2010-12-18T22:29:24Z</dcterms:modified>
  <cp:revision>1</cp:revision>
  <dc:subject/>
  <dc:title>Sin título de diapositiva</dc:title>
</cp:coreProperties>
</file>